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typ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E86A4-A1C8-4B5E-9C5D-4734DB773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FBDA7-B365-4515-A93C-E04ACE9B9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D2D02-EC0A-43B2-9419-34057396D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68BE4-D7F0-400F-9BC7-1825A8B5A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97FFD-6ED0-4FDC-91E9-CEDD7731B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20F7E-E1D8-4567-ACC7-A4240E5FE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AC094-9F86-4E9E-A4D8-F707A915A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7C174-C350-40A8-99BD-34C6C0AC4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A7955-C277-4028-9929-F2C76678F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A9249-D12A-4FDA-A9F3-C24847BDD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89699-50D2-4177-B39A-301717610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2F190-975F-422F-A434-ACF5FF42A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3ADDA-AF98-490D-96C0-825E88466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CBD9B-7A33-46D4-A59A-8E5BAEDD1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070A7-9E37-4923-B2BB-AB80A06B5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61CE4-51D4-4AE4-8165-942B063CB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95D00-320D-4EE6-9510-A2C73E7D4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995A4-0466-40B0-8A1C-3B6B3614F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C3777-9BE6-4C3F-93F4-A1B16DC27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B8FD2-9B22-494F-8BFA-3A523B180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8C3F9-2CD1-4730-847B-F334C20CB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81A40-AC4F-4923-92C6-995AD14B0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75436-7DE0-4A75-AD90-272579BA5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0A1AB-4EAB-4100-B913-3C89AFC80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20F77-561F-4DD7-B108-0D1E380CEF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F3209-1B9A-4D4D-B1A6-54925468EB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audio" Target="../media/type.wav"/><Relationship Id="rId17" Type="http://schemas.openxmlformats.org/officeDocument/2006/relationships/audio" Target="../media/type.wav"/><Relationship Id="rId18" Type="http://schemas.openxmlformats.org/officeDocument/2006/relationships/audio" Target="../media/type.wav"/><Relationship Id="rId19" Type="http://schemas.openxmlformats.org/officeDocument/2006/relationships/audio" Target="../media/type.wav"/><Relationship Id="rId20" Type="http://schemas.openxmlformats.org/officeDocument/2006/relationships/audio" Target="../media/type.wav"/><Relationship Id="rId21" Type="http://schemas.openxmlformats.org/officeDocument/2006/relationships/audio" Target="../media/type.wav"/><Relationship Id="rId2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lumn Transposition Cipher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39560" y="52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umn Transpos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5360" y="1953720"/>
            <a:ext cx="7647120" cy="27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the plaintext into a matrix by rows, then generate the ciphertext by selecting the columns in a given ord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, given the plaintext “encryption algorithms” and a 5x4 matr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grpSp>
        <p:nvGrpSpPr>
          <p:cNvPr id="115" name=""/>
          <p:cNvGrpSpPr/>
          <p:nvPr/>
        </p:nvGrpSpPr>
        <p:grpSpPr>
          <a:xfrm>
            <a:off x="2049840" y="4952880"/>
            <a:ext cx="272160" cy="278280"/>
            <a:chOff x="2049840" y="4952880"/>
            <a:chExt cx="272160" cy="278280"/>
          </a:xfrm>
        </p:grpSpPr>
        <p:sp>
          <p:nvSpPr>
            <p:cNvPr id="116" name=""/>
            <p:cNvSpPr/>
            <p:nvPr/>
          </p:nvSpPr>
          <p:spPr>
            <a:xfrm>
              <a:off x="2054160" y="49528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049840" y="49546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1783080" y="4952880"/>
            <a:ext cx="272160" cy="278280"/>
            <a:chOff x="1783080" y="4952880"/>
            <a:chExt cx="272160" cy="278280"/>
          </a:xfrm>
        </p:grpSpPr>
        <p:sp>
          <p:nvSpPr>
            <p:cNvPr id="119" name=""/>
            <p:cNvSpPr/>
            <p:nvPr/>
          </p:nvSpPr>
          <p:spPr>
            <a:xfrm>
              <a:off x="1787400" y="49528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783080" y="49546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526040" y="4952880"/>
            <a:ext cx="272160" cy="278280"/>
            <a:chOff x="1526040" y="4952880"/>
            <a:chExt cx="272160" cy="278280"/>
          </a:xfrm>
        </p:grpSpPr>
        <p:sp>
          <p:nvSpPr>
            <p:cNvPr id="122" name=""/>
            <p:cNvSpPr/>
            <p:nvPr/>
          </p:nvSpPr>
          <p:spPr>
            <a:xfrm>
              <a:off x="1530360" y="4952880"/>
              <a:ext cx="266760" cy="26676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526040" y="49546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1249560" y="4952880"/>
            <a:ext cx="272160" cy="278280"/>
            <a:chOff x="1249560" y="4952880"/>
            <a:chExt cx="272160" cy="278280"/>
          </a:xfrm>
        </p:grpSpPr>
        <p:sp>
          <p:nvSpPr>
            <p:cNvPr id="125" name=""/>
            <p:cNvSpPr/>
            <p:nvPr/>
          </p:nvSpPr>
          <p:spPr>
            <a:xfrm>
              <a:off x="1253880" y="49528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49560" y="49546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2049840" y="5219640"/>
            <a:ext cx="272160" cy="277920"/>
            <a:chOff x="2049840" y="5219640"/>
            <a:chExt cx="272160" cy="277920"/>
          </a:xfrm>
        </p:grpSpPr>
        <p:sp>
          <p:nvSpPr>
            <p:cNvPr id="128" name=""/>
            <p:cNvSpPr/>
            <p:nvPr/>
          </p:nvSpPr>
          <p:spPr>
            <a:xfrm>
              <a:off x="2054160" y="5219640"/>
              <a:ext cx="266400" cy="26640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049840" y="52210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1783080" y="5219640"/>
            <a:ext cx="272160" cy="277920"/>
            <a:chOff x="1783080" y="5219640"/>
            <a:chExt cx="272160" cy="277920"/>
          </a:xfrm>
        </p:grpSpPr>
        <p:sp>
          <p:nvSpPr>
            <p:cNvPr id="131" name=""/>
            <p:cNvSpPr/>
            <p:nvPr/>
          </p:nvSpPr>
          <p:spPr>
            <a:xfrm>
              <a:off x="1787400" y="5219640"/>
              <a:ext cx="266400" cy="26640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783080" y="52210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1526040" y="5219640"/>
            <a:ext cx="272160" cy="277920"/>
            <a:chOff x="1526040" y="5219640"/>
            <a:chExt cx="272160" cy="277920"/>
          </a:xfrm>
        </p:grpSpPr>
        <p:sp>
          <p:nvSpPr>
            <p:cNvPr id="134" name=""/>
            <p:cNvSpPr/>
            <p:nvPr/>
          </p:nvSpPr>
          <p:spPr>
            <a:xfrm>
              <a:off x="1530360" y="521964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526040" y="52210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1249560" y="5219640"/>
            <a:ext cx="272160" cy="277920"/>
            <a:chOff x="1249560" y="5219640"/>
            <a:chExt cx="272160" cy="277920"/>
          </a:xfrm>
        </p:grpSpPr>
        <p:sp>
          <p:nvSpPr>
            <p:cNvPr id="137" name=""/>
            <p:cNvSpPr/>
            <p:nvPr/>
          </p:nvSpPr>
          <p:spPr>
            <a:xfrm>
              <a:off x="1253880" y="5219640"/>
              <a:ext cx="266400" cy="26640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249560" y="52210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2049840" y="5486400"/>
            <a:ext cx="272160" cy="277920"/>
            <a:chOff x="2049840" y="5486400"/>
            <a:chExt cx="272160" cy="277920"/>
          </a:xfrm>
        </p:grpSpPr>
        <p:sp>
          <p:nvSpPr>
            <p:cNvPr id="140" name=""/>
            <p:cNvSpPr/>
            <p:nvPr/>
          </p:nvSpPr>
          <p:spPr>
            <a:xfrm>
              <a:off x="2054160" y="5486400"/>
              <a:ext cx="266400" cy="26640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49840" y="548784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1783080" y="5486400"/>
            <a:ext cx="272160" cy="277920"/>
            <a:chOff x="1783080" y="5486400"/>
            <a:chExt cx="272160" cy="277920"/>
          </a:xfrm>
        </p:grpSpPr>
        <p:sp>
          <p:nvSpPr>
            <p:cNvPr id="143" name=""/>
            <p:cNvSpPr/>
            <p:nvPr/>
          </p:nvSpPr>
          <p:spPr>
            <a:xfrm>
              <a:off x="1787400" y="5486400"/>
              <a:ext cx="266400" cy="26640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83080" y="548784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6040" y="5486400"/>
            <a:ext cx="272160" cy="277920"/>
            <a:chOff x="1526040" y="5486400"/>
            <a:chExt cx="272160" cy="277920"/>
          </a:xfrm>
        </p:grpSpPr>
        <p:sp>
          <p:nvSpPr>
            <p:cNvPr id="146" name=""/>
            <p:cNvSpPr/>
            <p:nvPr/>
          </p:nvSpPr>
          <p:spPr>
            <a:xfrm>
              <a:off x="1530360" y="548640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526040" y="548784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1249560" y="5486400"/>
            <a:ext cx="272160" cy="277920"/>
            <a:chOff x="1249560" y="5486400"/>
            <a:chExt cx="272160" cy="277920"/>
          </a:xfrm>
        </p:grpSpPr>
        <p:sp>
          <p:nvSpPr>
            <p:cNvPr id="149" name=""/>
            <p:cNvSpPr/>
            <p:nvPr/>
          </p:nvSpPr>
          <p:spPr>
            <a:xfrm>
              <a:off x="1253880" y="5486400"/>
              <a:ext cx="266400" cy="26640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249560" y="548784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049840" y="5753160"/>
            <a:ext cx="272160" cy="277920"/>
            <a:chOff x="2049840" y="5753160"/>
            <a:chExt cx="272160" cy="277920"/>
          </a:xfrm>
        </p:grpSpPr>
        <p:sp>
          <p:nvSpPr>
            <p:cNvPr id="152" name=""/>
            <p:cNvSpPr/>
            <p:nvPr/>
          </p:nvSpPr>
          <p:spPr>
            <a:xfrm>
              <a:off x="2054160" y="5753160"/>
              <a:ext cx="266400" cy="26640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049840" y="57546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1783080" y="5753160"/>
            <a:ext cx="272160" cy="277920"/>
            <a:chOff x="1783080" y="5753160"/>
            <a:chExt cx="272160" cy="277920"/>
          </a:xfrm>
        </p:grpSpPr>
        <p:sp>
          <p:nvSpPr>
            <p:cNvPr id="155" name=""/>
            <p:cNvSpPr/>
            <p:nvPr/>
          </p:nvSpPr>
          <p:spPr>
            <a:xfrm>
              <a:off x="1787400" y="5753160"/>
              <a:ext cx="266400" cy="26640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783080" y="57546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1526040" y="5753160"/>
            <a:ext cx="272160" cy="277920"/>
            <a:chOff x="1526040" y="5753160"/>
            <a:chExt cx="272160" cy="277920"/>
          </a:xfrm>
        </p:grpSpPr>
        <p:sp>
          <p:nvSpPr>
            <p:cNvPr id="158" name=""/>
            <p:cNvSpPr/>
            <p:nvPr/>
          </p:nvSpPr>
          <p:spPr>
            <a:xfrm>
              <a:off x="1530360" y="575316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26040" y="57546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249560" y="5753160"/>
            <a:ext cx="272160" cy="277920"/>
            <a:chOff x="1249560" y="5753160"/>
            <a:chExt cx="272160" cy="277920"/>
          </a:xfrm>
        </p:grpSpPr>
        <p:sp>
          <p:nvSpPr>
            <p:cNvPr id="161" name=""/>
            <p:cNvSpPr/>
            <p:nvPr/>
          </p:nvSpPr>
          <p:spPr>
            <a:xfrm>
              <a:off x="1253880" y="5753160"/>
              <a:ext cx="266400" cy="26640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249560" y="57546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2049840" y="6010200"/>
            <a:ext cx="272160" cy="278280"/>
            <a:chOff x="2049840" y="6010200"/>
            <a:chExt cx="272160" cy="278280"/>
          </a:xfrm>
        </p:grpSpPr>
        <p:sp>
          <p:nvSpPr>
            <p:cNvPr id="164" name=""/>
            <p:cNvSpPr/>
            <p:nvPr/>
          </p:nvSpPr>
          <p:spPr>
            <a:xfrm>
              <a:off x="2054160" y="601020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049840" y="60120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1783080" y="6010200"/>
            <a:ext cx="272160" cy="278280"/>
            <a:chOff x="1783080" y="6010200"/>
            <a:chExt cx="272160" cy="278280"/>
          </a:xfrm>
        </p:grpSpPr>
        <p:sp>
          <p:nvSpPr>
            <p:cNvPr id="167" name=""/>
            <p:cNvSpPr/>
            <p:nvPr/>
          </p:nvSpPr>
          <p:spPr>
            <a:xfrm>
              <a:off x="1787400" y="601020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783080" y="60120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1526040" y="6010200"/>
            <a:ext cx="272160" cy="278280"/>
            <a:chOff x="1526040" y="6010200"/>
            <a:chExt cx="272160" cy="278280"/>
          </a:xfrm>
        </p:grpSpPr>
        <p:sp>
          <p:nvSpPr>
            <p:cNvPr id="170" name=""/>
            <p:cNvSpPr/>
            <p:nvPr/>
          </p:nvSpPr>
          <p:spPr>
            <a:xfrm>
              <a:off x="1530360" y="6010200"/>
              <a:ext cx="266760" cy="26676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526040" y="60120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1249560" y="6010200"/>
            <a:ext cx="272160" cy="278280"/>
            <a:chOff x="1249560" y="6010200"/>
            <a:chExt cx="272160" cy="278280"/>
          </a:xfrm>
        </p:grpSpPr>
        <p:sp>
          <p:nvSpPr>
            <p:cNvPr id="173" name=""/>
            <p:cNvSpPr/>
            <p:nvPr/>
          </p:nvSpPr>
          <p:spPr>
            <a:xfrm>
              <a:off x="1253880" y="601020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249560" y="60120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173760" y="5629320"/>
            <a:ext cx="1338480" cy="277920"/>
            <a:chOff x="3173760" y="5629320"/>
            <a:chExt cx="1338480" cy="277920"/>
          </a:xfrm>
        </p:grpSpPr>
        <p:grpSp>
          <p:nvGrpSpPr>
            <p:cNvPr id="176" name=""/>
            <p:cNvGrpSpPr/>
            <p:nvPr/>
          </p:nvGrpSpPr>
          <p:grpSpPr>
            <a:xfrm>
              <a:off x="3983040" y="5629320"/>
              <a:ext cx="272160" cy="277920"/>
              <a:chOff x="3983040" y="5629320"/>
              <a:chExt cx="272160" cy="277920"/>
            </a:xfrm>
          </p:grpSpPr>
          <p:sp>
            <p:nvSpPr>
              <p:cNvPr id="177" name=""/>
              <p:cNvSpPr/>
              <p:nvPr/>
            </p:nvSpPr>
            <p:spPr>
              <a:xfrm>
                <a:off x="3987360" y="5629320"/>
                <a:ext cx="26604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98304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4240080" y="5629320"/>
              <a:ext cx="272160" cy="277920"/>
              <a:chOff x="4240080" y="5629320"/>
              <a:chExt cx="272160" cy="277920"/>
            </a:xfrm>
          </p:grpSpPr>
          <p:sp>
            <p:nvSpPr>
              <p:cNvPr id="180" name=""/>
              <p:cNvSpPr/>
              <p:nvPr/>
            </p:nvSpPr>
            <p:spPr>
              <a:xfrm>
                <a:off x="4244400" y="56293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24008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3716280" y="5629320"/>
              <a:ext cx="272160" cy="277920"/>
              <a:chOff x="3716280" y="5629320"/>
              <a:chExt cx="272160" cy="277920"/>
            </a:xfrm>
          </p:grpSpPr>
          <p:sp>
            <p:nvSpPr>
              <p:cNvPr id="183" name=""/>
              <p:cNvSpPr/>
              <p:nvPr/>
            </p:nvSpPr>
            <p:spPr>
              <a:xfrm>
                <a:off x="3720600" y="56293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71628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3449520" y="5629320"/>
              <a:ext cx="272160" cy="277920"/>
              <a:chOff x="3449520" y="5629320"/>
              <a:chExt cx="272160" cy="277920"/>
            </a:xfrm>
          </p:grpSpPr>
          <p:sp>
            <p:nvSpPr>
              <p:cNvPr id="186" name=""/>
              <p:cNvSpPr/>
              <p:nvPr/>
            </p:nvSpPr>
            <p:spPr>
              <a:xfrm>
                <a:off x="3453840" y="56293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44952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3173760" y="5629320"/>
              <a:ext cx="272160" cy="277920"/>
              <a:chOff x="3173760" y="5629320"/>
              <a:chExt cx="272160" cy="277920"/>
            </a:xfrm>
          </p:grpSpPr>
          <p:sp>
            <p:nvSpPr>
              <p:cNvPr id="189" name=""/>
              <p:cNvSpPr/>
              <p:nvPr/>
            </p:nvSpPr>
            <p:spPr>
              <a:xfrm>
                <a:off x="3178080" y="5629320"/>
                <a:ext cx="26604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17376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1" name=""/>
          <p:cNvGrpSpPr/>
          <p:nvPr/>
        </p:nvGrpSpPr>
        <p:grpSpPr>
          <a:xfrm>
            <a:off x="1233360" y="4657680"/>
            <a:ext cx="1095120" cy="377640"/>
            <a:chOff x="1233360" y="4657680"/>
            <a:chExt cx="1095120" cy="377640"/>
          </a:xfrm>
        </p:grpSpPr>
        <p:sp>
          <p:nvSpPr>
            <p:cNvPr id="192" name=""/>
            <p:cNvSpPr/>
            <p:nvPr/>
          </p:nvSpPr>
          <p:spPr>
            <a:xfrm>
              <a:off x="1233360" y="4657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528560" y="4657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785600" y="46670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033280" y="46670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3169800" y="4867200"/>
            <a:ext cx="4770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Select the columns in the order 4 - 2 - 1 -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6778800" y="4095720"/>
            <a:ext cx="1037880" cy="838080"/>
            <a:chOff x="6778800" y="4095720"/>
            <a:chExt cx="1037880" cy="838080"/>
          </a:xfrm>
        </p:grpSpPr>
        <p:sp>
          <p:nvSpPr>
            <p:cNvPr id="198" name=""/>
            <p:cNvSpPr/>
            <p:nvPr/>
          </p:nvSpPr>
          <p:spPr>
            <a:xfrm>
              <a:off x="6868800" y="409572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imes New Roman"/>
                </a:rPr>
                <a:t>KE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78800" y="4933800"/>
              <a:ext cx="1037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26280" y="4429080"/>
              <a:ext cx="0" cy="4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1773360" y="4952880"/>
            <a:ext cx="280800" cy="1326240"/>
            <a:chOff x="1773360" y="4952880"/>
            <a:chExt cx="280800" cy="1326240"/>
          </a:xfrm>
        </p:grpSpPr>
        <p:grpSp>
          <p:nvGrpSpPr>
            <p:cNvPr id="202" name=""/>
            <p:cNvGrpSpPr/>
            <p:nvPr/>
          </p:nvGrpSpPr>
          <p:grpSpPr>
            <a:xfrm>
              <a:off x="1773360" y="4952880"/>
              <a:ext cx="280800" cy="278280"/>
              <a:chOff x="1773360" y="4952880"/>
              <a:chExt cx="280800" cy="278280"/>
            </a:xfrm>
          </p:grpSpPr>
          <p:sp>
            <p:nvSpPr>
              <p:cNvPr id="203" name=""/>
              <p:cNvSpPr/>
              <p:nvPr/>
            </p:nvSpPr>
            <p:spPr>
              <a:xfrm>
                <a:off x="1787400" y="495288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773360" y="4954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1773360" y="5210280"/>
              <a:ext cx="280800" cy="278280"/>
              <a:chOff x="1773360" y="5210280"/>
              <a:chExt cx="280800" cy="278280"/>
            </a:xfrm>
          </p:grpSpPr>
          <p:sp>
            <p:nvSpPr>
              <p:cNvPr id="206" name=""/>
              <p:cNvSpPr/>
              <p:nvPr/>
            </p:nvSpPr>
            <p:spPr>
              <a:xfrm>
                <a:off x="1787400" y="521028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773360" y="52120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1773360" y="5476680"/>
              <a:ext cx="280800" cy="278280"/>
              <a:chOff x="1773360" y="5476680"/>
              <a:chExt cx="280800" cy="278280"/>
            </a:xfrm>
          </p:grpSpPr>
          <p:sp>
            <p:nvSpPr>
              <p:cNvPr id="209" name=""/>
              <p:cNvSpPr/>
              <p:nvPr/>
            </p:nvSpPr>
            <p:spPr>
              <a:xfrm>
                <a:off x="1787400" y="547668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773360" y="54784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1773360" y="5743440"/>
              <a:ext cx="280800" cy="278280"/>
              <a:chOff x="1773360" y="5743440"/>
              <a:chExt cx="280800" cy="278280"/>
            </a:xfrm>
          </p:grpSpPr>
          <p:sp>
            <p:nvSpPr>
              <p:cNvPr id="212" name=""/>
              <p:cNvSpPr/>
              <p:nvPr/>
            </p:nvSpPr>
            <p:spPr>
              <a:xfrm>
                <a:off x="1787400" y="574344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773360" y="57452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" name=""/>
            <p:cNvGrpSpPr/>
            <p:nvPr/>
          </p:nvGrpSpPr>
          <p:grpSpPr>
            <a:xfrm>
              <a:off x="1773360" y="6000840"/>
              <a:ext cx="280800" cy="278280"/>
              <a:chOff x="1773360" y="6000840"/>
              <a:chExt cx="280800" cy="278280"/>
            </a:xfrm>
          </p:grpSpPr>
          <p:sp>
            <p:nvSpPr>
              <p:cNvPr id="215" name=""/>
              <p:cNvSpPr/>
              <p:nvPr/>
            </p:nvSpPr>
            <p:spPr>
              <a:xfrm>
                <a:off x="1787400" y="600084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773360" y="60026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7" name=""/>
          <p:cNvGrpSpPr/>
          <p:nvPr/>
        </p:nvGrpSpPr>
        <p:grpSpPr>
          <a:xfrm>
            <a:off x="2049840" y="4952880"/>
            <a:ext cx="280080" cy="1326240"/>
            <a:chOff x="2049840" y="4952880"/>
            <a:chExt cx="280080" cy="1326240"/>
          </a:xfrm>
        </p:grpSpPr>
        <p:grpSp>
          <p:nvGrpSpPr>
            <p:cNvPr id="218" name=""/>
            <p:cNvGrpSpPr/>
            <p:nvPr/>
          </p:nvGrpSpPr>
          <p:grpSpPr>
            <a:xfrm>
              <a:off x="2049840" y="4952880"/>
              <a:ext cx="280080" cy="278280"/>
              <a:chOff x="2049840" y="4952880"/>
              <a:chExt cx="280080" cy="278280"/>
            </a:xfrm>
          </p:grpSpPr>
          <p:sp>
            <p:nvSpPr>
              <p:cNvPr id="219" name=""/>
              <p:cNvSpPr/>
              <p:nvPr/>
            </p:nvSpPr>
            <p:spPr>
              <a:xfrm>
                <a:off x="2063520" y="495288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049840" y="4954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2049840" y="5210280"/>
              <a:ext cx="280080" cy="278280"/>
              <a:chOff x="2049840" y="5210280"/>
              <a:chExt cx="280080" cy="278280"/>
            </a:xfrm>
          </p:grpSpPr>
          <p:sp>
            <p:nvSpPr>
              <p:cNvPr id="222" name=""/>
              <p:cNvSpPr/>
              <p:nvPr/>
            </p:nvSpPr>
            <p:spPr>
              <a:xfrm>
                <a:off x="2063520" y="521028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049840" y="52120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2049840" y="5476680"/>
              <a:ext cx="280080" cy="278280"/>
              <a:chOff x="2049840" y="5476680"/>
              <a:chExt cx="280080" cy="278280"/>
            </a:xfrm>
          </p:grpSpPr>
          <p:sp>
            <p:nvSpPr>
              <p:cNvPr id="225" name=""/>
              <p:cNvSpPr/>
              <p:nvPr/>
            </p:nvSpPr>
            <p:spPr>
              <a:xfrm>
                <a:off x="2063520" y="547668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049840" y="54784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2049840" y="5743440"/>
              <a:ext cx="280080" cy="278280"/>
              <a:chOff x="2049840" y="5743440"/>
              <a:chExt cx="280080" cy="278280"/>
            </a:xfrm>
          </p:grpSpPr>
          <p:sp>
            <p:nvSpPr>
              <p:cNvPr id="228" name=""/>
              <p:cNvSpPr/>
              <p:nvPr/>
            </p:nvSpPr>
            <p:spPr>
              <a:xfrm>
                <a:off x="2063520" y="574344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049840" y="57452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2049840" y="6000840"/>
              <a:ext cx="280080" cy="278280"/>
              <a:chOff x="2049840" y="6000840"/>
              <a:chExt cx="280080" cy="278280"/>
            </a:xfrm>
          </p:grpSpPr>
          <p:sp>
            <p:nvSpPr>
              <p:cNvPr id="231" name=""/>
              <p:cNvSpPr/>
              <p:nvPr/>
            </p:nvSpPr>
            <p:spPr>
              <a:xfrm>
                <a:off x="2063520" y="600084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049840" y="60026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3" name=""/>
          <p:cNvSpPr/>
          <p:nvPr/>
        </p:nvSpPr>
        <p:spPr>
          <a:xfrm>
            <a:off x="2390760" y="5457960"/>
            <a:ext cx="657360" cy="209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621320" y="5629320"/>
            <a:ext cx="1339200" cy="277920"/>
            <a:chOff x="4621320" y="5629320"/>
            <a:chExt cx="1339200" cy="277920"/>
          </a:xfrm>
        </p:grpSpPr>
        <p:grpSp>
          <p:nvGrpSpPr>
            <p:cNvPr id="235" name=""/>
            <p:cNvGrpSpPr/>
            <p:nvPr/>
          </p:nvGrpSpPr>
          <p:grpSpPr>
            <a:xfrm>
              <a:off x="5430960" y="5629320"/>
              <a:ext cx="272160" cy="277920"/>
              <a:chOff x="5430960" y="5629320"/>
              <a:chExt cx="272160" cy="277920"/>
            </a:xfrm>
          </p:grpSpPr>
          <p:sp>
            <p:nvSpPr>
              <p:cNvPr id="236" name=""/>
              <p:cNvSpPr/>
              <p:nvPr/>
            </p:nvSpPr>
            <p:spPr>
              <a:xfrm>
                <a:off x="5435280" y="56293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43096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5688360" y="5629320"/>
              <a:ext cx="272160" cy="277920"/>
              <a:chOff x="5688360" y="5629320"/>
              <a:chExt cx="272160" cy="277920"/>
            </a:xfrm>
          </p:grpSpPr>
          <p:sp>
            <p:nvSpPr>
              <p:cNvPr id="239" name=""/>
              <p:cNvSpPr/>
              <p:nvPr/>
            </p:nvSpPr>
            <p:spPr>
              <a:xfrm>
                <a:off x="5692680" y="56293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68836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5164560" y="5629320"/>
              <a:ext cx="272160" cy="277920"/>
              <a:chOff x="5164560" y="5629320"/>
              <a:chExt cx="272160" cy="277920"/>
            </a:xfrm>
          </p:grpSpPr>
          <p:sp>
            <p:nvSpPr>
              <p:cNvPr id="242" name=""/>
              <p:cNvSpPr/>
              <p:nvPr/>
            </p:nvSpPr>
            <p:spPr>
              <a:xfrm>
                <a:off x="5168880" y="56293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16456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4897800" y="5629320"/>
              <a:ext cx="272160" cy="277920"/>
              <a:chOff x="4897800" y="5629320"/>
              <a:chExt cx="272160" cy="277920"/>
            </a:xfrm>
          </p:grpSpPr>
          <p:sp>
            <p:nvSpPr>
              <p:cNvPr id="245" name=""/>
              <p:cNvSpPr/>
              <p:nvPr/>
            </p:nvSpPr>
            <p:spPr>
              <a:xfrm>
                <a:off x="4902120" y="56293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89780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4621320" y="5629320"/>
              <a:ext cx="272160" cy="277920"/>
              <a:chOff x="4621320" y="5629320"/>
              <a:chExt cx="272160" cy="277920"/>
            </a:xfrm>
          </p:grpSpPr>
          <p:sp>
            <p:nvSpPr>
              <p:cNvPr id="248" name=""/>
              <p:cNvSpPr/>
              <p:nvPr/>
            </p:nvSpPr>
            <p:spPr>
              <a:xfrm>
                <a:off x="4625640" y="56293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62132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0" name=""/>
          <p:cNvGrpSpPr/>
          <p:nvPr/>
        </p:nvGrpSpPr>
        <p:grpSpPr>
          <a:xfrm>
            <a:off x="6069240" y="5629320"/>
            <a:ext cx="1339200" cy="277920"/>
            <a:chOff x="6069240" y="5629320"/>
            <a:chExt cx="1339200" cy="277920"/>
          </a:xfrm>
        </p:grpSpPr>
        <p:grpSp>
          <p:nvGrpSpPr>
            <p:cNvPr id="251" name=""/>
            <p:cNvGrpSpPr/>
            <p:nvPr/>
          </p:nvGrpSpPr>
          <p:grpSpPr>
            <a:xfrm>
              <a:off x="6878880" y="5629320"/>
              <a:ext cx="272160" cy="277920"/>
              <a:chOff x="6878880" y="5629320"/>
              <a:chExt cx="272160" cy="277920"/>
            </a:xfrm>
          </p:grpSpPr>
          <p:sp>
            <p:nvSpPr>
              <p:cNvPr id="252" name=""/>
              <p:cNvSpPr/>
              <p:nvPr/>
            </p:nvSpPr>
            <p:spPr>
              <a:xfrm>
                <a:off x="6883200" y="56293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87888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7136280" y="5629320"/>
              <a:ext cx="272160" cy="277920"/>
              <a:chOff x="7136280" y="5629320"/>
              <a:chExt cx="272160" cy="277920"/>
            </a:xfrm>
          </p:grpSpPr>
          <p:sp>
            <p:nvSpPr>
              <p:cNvPr id="255" name=""/>
              <p:cNvSpPr/>
              <p:nvPr/>
            </p:nvSpPr>
            <p:spPr>
              <a:xfrm>
                <a:off x="7140600" y="56293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13628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6612480" y="5629320"/>
              <a:ext cx="272160" cy="277920"/>
              <a:chOff x="6612480" y="5629320"/>
              <a:chExt cx="272160" cy="277920"/>
            </a:xfrm>
          </p:grpSpPr>
          <p:sp>
            <p:nvSpPr>
              <p:cNvPr id="258" name=""/>
              <p:cNvSpPr/>
              <p:nvPr/>
            </p:nvSpPr>
            <p:spPr>
              <a:xfrm>
                <a:off x="6616800" y="56293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661248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6345720" y="5629320"/>
              <a:ext cx="272160" cy="277920"/>
              <a:chOff x="6345720" y="5629320"/>
              <a:chExt cx="272160" cy="277920"/>
            </a:xfrm>
          </p:grpSpPr>
          <p:sp>
            <p:nvSpPr>
              <p:cNvPr id="261" name=""/>
              <p:cNvSpPr/>
              <p:nvPr/>
            </p:nvSpPr>
            <p:spPr>
              <a:xfrm>
                <a:off x="6350040" y="56293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634572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" name=""/>
            <p:cNvGrpSpPr/>
            <p:nvPr/>
          </p:nvGrpSpPr>
          <p:grpSpPr>
            <a:xfrm>
              <a:off x="6069240" y="5629320"/>
              <a:ext cx="272160" cy="277920"/>
              <a:chOff x="6069240" y="5629320"/>
              <a:chExt cx="272160" cy="277920"/>
            </a:xfrm>
          </p:grpSpPr>
          <p:sp>
            <p:nvSpPr>
              <p:cNvPr id="264" name=""/>
              <p:cNvSpPr/>
              <p:nvPr/>
            </p:nvSpPr>
            <p:spPr>
              <a:xfrm>
                <a:off x="6073560" y="56293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06924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6" name=""/>
          <p:cNvGrpSpPr/>
          <p:nvPr/>
        </p:nvGrpSpPr>
        <p:grpSpPr>
          <a:xfrm>
            <a:off x="7526520" y="5629320"/>
            <a:ext cx="1339200" cy="277920"/>
            <a:chOff x="7526520" y="5629320"/>
            <a:chExt cx="1339200" cy="277920"/>
          </a:xfrm>
        </p:grpSpPr>
        <p:grpSp>
          <p:nvGrpSpPr>
            <p:cNvPr id="267" name=""/>
            <p:cNvGrpSpPr/>
            <p:nvPr/>
          </p:nvGrpSpPr>
          <p:grpSpPr>
            <a:xfrm>
              <a:off x="8336160" y="5629320"/>
              <a:ext cx="272160" cy="277920"/>
              <a:chOff x="8336160" y="5629320"/>
              <a:chExt cx="272160" cy="277920"/>
            </a:xfrm>
          </p:grpSpPr>
          <p:sp>
            <p:nvSpPr>
              <p:cNvPr id="268" name=""/>
              <p:cNvSpPr/>
              <p:nvPr/>
            </p:nvSpPr>
            <p:spPr>
              <a:xfrm>
                <a:off x="8340480" y="56293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833616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8593560" y="5629320"/>
              <a:ext cx="272160" cy="277920"/>
              <a:chOff x="8593560" y="5629320"/>
              <a:chExt cx="272160" cy="277920"/>
            </a:xfrm>
          </p:grpSpPr>
          <p:sp>
            <p:nvSpPr>
              <p:cNvPr id="271" name=""/>
              <p:cNvSpPr/>
              <p:nvPr/>
            </p:nvSpPr>
            <p:spPr>
              <a:xfrm>
                <a:off x="8597880" y="56293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859356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8069760" y="5629320"/>
              <a:ext cx="272160" cy="277920"/>
              <a:chOff x="8069760" y="5629320"/>
              <a:chExt cx="272160" cy="277920"/>
            </a:xfrm>
          </p:grpSpPr>
          <p:sp>
            <p:nvSpPr>
              <p:cNvPr id="274" name=""/>
              <p:cNvSpPr/>
              <p:nvPr/>
            </p:nvSpPr>
            <p:spPr>
              <a:xfrm>
                <a:off x="8074080" y="56293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806976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7803000" y="5629320"/>
              <a:ext cx="272160" cy="277920"/>
              <a:chOff x="7803000" y="5629320"/>
              <a:chExt cx="272160" cy="277920"/>
            </a:xfrm>
          </p:grpSpPr>
          <p:sp>
            <p:nvSpPr>
              <p:cNvPr id="277" name=""/>
              <p:cNvSpPr/>
              <p:nvPr/>
            </p:nvSpPr>
            <p:spPr>
              <a:xfrm>
                <a:off x="7807320" y="56293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80300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7526520" y="5629320"/>
              <a:ext cx="272160" cy="277920"/>
              <a:chOff x="7526520" y="5629320"/>
              <a:chExt cx="272160" cy="277920"/>
            </a:xfrm>
          </p:grpSpPr>
          <p:sp>
            <p:nvSpPr>
              <p:cNvPr id="280" name=""/>
              <p:cNvSpPr/>
              <p:nvPr/>
            </p:nvSpPr>
            <p:spPr>
              <a:xfrm>
                <a:off x="7530840" y="56293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52652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2" name=""/>
          <p:cNvGrpSpPr/>
          <p:nvPr/>
        </p:nvGrpSpPr>
        <p:grpSpPr>
          <a:xfrm>
            <a:off x="1506600" y="4952880"/>
            <a:ext cx="280800" cy="1326240"/>
            <a:chOff x="1506600" y="4952880"/>
            <a:chExt cx="280800" cy="1326240"/>
          </a:xfrm>
        </p:grpSpPr>
        <p:grpSp>
          <p:nvGrpSpPr>
            <p:cNvPr id="283" name=""/>
            <p:cNvGrpSpPr/>
            <p:nvPr/>
          </p:nvGrpSpPr>
          <p:grpSpPr>
            <a:xfrm>
              <a:off x="1506600" y="4952880"/>
              <a:ext cx="280800" cy="278280"/>
              <a:chOff x="1506600" y="4952880"/>
              <a:chExt cx="280800" cy="278280"/>
            </a:xfrm>
          </p:grpSpPr>
          <p:sp>
            <p:nvSpPr>
              <p:cNvPr id="284" name=""/>
              <p:cNvSpPr/>
              <p:nvPr/>
            </p:nvSpPr>
            <p:spPr>
              <a:xfrm>
                <a:off x="1520640" y="495288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506600" y="4954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1506600" y="5210280"/>
              <a:ext cx="280800" cy="278280"/>
              <a:chOff x="1506600" y="5210280"/>
              <a:chExt cx="280800" cy="278280"/>
            </a:xfrm>
          </p:grpSpPr>
          <p:sp>
            <p:nvSpPr>
              <p:cNvPr id="287" name=""/>
              <p:cNvSpPr/>
              <p:nvPr/>
            </p:nvSpPr>
            <p:spPr>
              <a:xfrm>
                <a:off x="1520640" y="521028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506600" y="52120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1506600" y="5476680"/>
              <a:ext cx="280800" cy="278280"/>
              <a:chOff x="1506600" y="5476680"/>
              <a:chExt cx="280800" cy="278280"/>
            </a:xfrm>
          </p:grpSpPr>
          <p:sp>
            <p:nvSpPr>
              <p:cNvPr id="290" name=""/>
              <p:cNvSpPr/>
              <p:nvPr/>
            </p:nvSpPr>
            <p:spPr>
              <a:xfrm>
                <a:off x="1520640" y="547668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506600" y="54784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1506600" y="5743440"/>
              <a:ext cx="280800" cy="278280"/>
              <a:chOff x="1506600" y="5743440"/>
              <a:chExt cx="280800" cy="278280"/>
            </a:xfrm>
          </p:grpSpPr>
          <p:sp>
            <p:nvSpPr>
              <p:cNvPr id="293" name=""/>
              <p:cNvSpPr/>
              <p:nvPr/>
            </p:nvSpPr>
            <p:spPr>
              <a:xfrm>
                <a:off x="1520640" y="574344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506600" y="57452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1506600" y="6000840"/>
              <a:ext cx="280800" cy="278280"/>
              <a:chOff x="1506600" y="6000840"/>
              <a:chExt cx="280800" cy="278280"/>
            </a:xfrm>
          </p:grpSpPr>
          <p:sp>
            <p:nvSpPr>
              <p:cNvPr id="296" name=""/>
              <p:cNvSpPr/>
              <p:nvPr/>
            </p:nvSpPr>
            <p:spPr>
              <a:xfrm>
                <a:off x="1520640" y="600084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06600" y="60026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8" name=""/>
          <p:cNvSpPr/>
          <p:nvPr/>
        </p:nvSpPr>
        <p:spPr>
          <a:xfrm>
            <a:off x="1733400" y="5133960"/>
            <a:ext cx="287676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1240200" y="4952880"/>
            <a:ext cx="280800" cy="1326240"/>
            <a:chOff x="1240200" y="4952880"/>
            <a:chExt cx="280800" cy="1326240"/>
          </a:xfrm>
        </p:grpSpPr>
        <p:grpSp>
          <p:nvGrpSpPr>
            <p:cNvPr id="300" name=""/>
            <p:cNvGrpSpPr/>
            <p:nvPr/>
          </p:nvGrpSpPr>
          <p:grpSpPr>
            <a:xfrm>
              <a:off x="1240200" y="4952880"/>
              <a:ext cx="280800" cy="278280"/>
              <a:chOff x="1240200" y="4952880"/>
              <a:chExt cx="280800" cy="278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254240" y="495288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240200" y="4954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1240200" y="5210280"/>
              <a:ext cx="280800" cy="278280"/>
              <a:chOff x="1240200" y="5210280"/>
              <a:chExt cx="280800" cy="278280"/>
            </a:xfrm>
          </p:grpSpPr>
          <p:sp>
            <p:nvSpPr>
              <p:cNvPr id="304" name=""/>
              <p:cNvSpPr/>
              <p:nvPr/>
            </p:nvSpPr>
            <p:spPr>
              <a:xfrm>
                <a:off x="1254240" y="521028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1240200" y="52120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1240200" y="5476680"/>
              <a:ext cx="280800" cy="278280"/>
              <a:chOff x="1240200" y="5476680"/>
              <a:chExt cx="280800" cy="278280"/>
            </a:xfrm>
          </p:grpSpPr>
          <p:sp>
            <p:nvSpPr>
              <p:cNvPr id="307" name=""/>
              <p:cNvSpPr/>
              <p:nvPr/>
            </p:nvSpPr>
            <p:spPr>
              <a:xfrm>
                <a:off x="1254240" y="547668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240200" y="54784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1240200" y="5743440"/>
              <a:ext cx="280800" cy="278280"/>
              <a:chOff x="1240200" y="5743440"/>
              <a:chExt cx="280800" cy="278280"/>
            </a:xfrm>
          </p:grpSpPr>
          <p:sp>
            <p:nvSpPr>
              <p:cNvPr id="310" name=""/>
              <p:cNvSpPr/>
              <p:nvPr/>
            </p:nvSpPr>
            <p:spPr>
              <a:xfrm>
                <a:off x="1254240" y="574344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240200" y="57452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1240200" y="6000840"/>
              <a:ext cx="280800" cy="278280"/>
              <a:chOff x="1240200" y="6000840"/>
              <a:chExt cx="280800" cy="278280"/>
            </a:xfrm>
          </p:grpSpPr>
          <p:sp>
            <p:nvSpPr>
              <p:cNvPr id="313" name=""/>
              <p:cNvSpPr/>
              <p:nvPr/>
            </p:nvSpPr>
            <p:spPr>
              <a:xfrm>
                <a:off x="1254240" y="600084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240200" y="60026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5" name=""/>
          <p:cNvSpPr/>
          <p:nvPr/>
        </p:nvSpPr>
        <p:spPr>
          <a:xfrm>
            <a:off x="1486080" y="5019840"/>
            <a:ext cx="4552920" cy="59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000160" y="5095800"/>
            <a:ext cx="5486400" cy="495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D2653-D3A1-4947-AB82-B64F406366C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5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5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5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5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60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6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7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75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80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8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9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000"/>
                            </p:stCondLst>
                            <p:childTnLst>
                              <p:par>
                                <p:cTn id="9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umn K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31840" y="2163600"/>
            <a:ext cx="86868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key for a column transposition is the number of columns and the order in which they are selec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094760" y="3968640"/>
            <a:ext cx="487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th can be specified by a keywor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255040" y="4741920"/>
            <a:ext cx="576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the length of the keyword is the number of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340360" y="5389560"/>
            <a:ext cx="5638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the order of the letters in the keyword determi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the order in which the columns are sel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9AEF8-D9CB-4FE7-811C-F6572DF56B5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K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400960" cy="31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xample, the keyword “general” defines a column transposition with 7 column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efine the order of columns assign each letter a number based on its order in the alphab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013560" y="4896000"/>
            <a:ext cx="37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Courier New"/>
              </a:rPr>
              <a:t>g e n e r a 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754240" y="5499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601440" y="5499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706280" y="5499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049200" y="5499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325560" y="5499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134960" y="5499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201640" y="551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D0ACA-34B1-4C9C-A5C1-360AF9AC429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3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3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3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3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3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3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3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3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3711600" cy="17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you select Column Transposition, CAP presents a key windo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4081320" y="2263680"/>
            <a:ext cx="4591080" cy="408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D5B5D-7FCE-44F6-8858-70D31633F49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3-05T03:20:09Z</dcterms:modified>
  <cp:revision>72</cp:revision>
  <dc:subject/>
  <dc:title>CAP Cryptographic Analysis Program</dc:title>
</cp:coreProperties>
</file>